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7FA5DE-4854-4FF7-B0C6-2D0318E4C9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8DED37-456E-41FA-A3AA-8773ED8357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88C452-1833-44E7-97D6-D625EDAD4E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43341D-B634-43F0-A4F8-E38BF1F2C3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8B4A33-2BCF-4761-B1D9-BA1AB544C7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20BFC6-D959-4EE4-86F6-9BB5DC3062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C7100C-7453-4D6C-8DB9-22A52AE74B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3ABB31-B3BA-4284-AD55-AFEB9E428D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DD6961-9E94-4F23-952F-30A10852D3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8F1483-7A26-47D2-9A92-F2F3F0323A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64D364-2AA0-4BBB-B227-1A468343D3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88915E-AC92-4DB6-A390-8F0BE8C6ED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6F3D2D-9F6A-4D03-BB48-16EE746968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B2A46A-30E3-4262-95BB-C1923BBF51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1D75F8-7703-4071-BCBC-AA71F85B8A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B44C36-E065-439A-9477-D33198026A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84CE87-0A97-4A56-AA0B-C11E9DF5E8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99A293A-C53F-4DF2-BD12-95A2C34F088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E19184-073F-4C28-B362-B8110C8425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E274BF-80FE-4828-A329-E976C395C6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0513C8-26A5-4C65-9C6D-5EAAED3635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6810D8-05BD-40B6-84A0-939D682B82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42DE8D-31E1-4521-AB23-325CB2A125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A465D0-DC5E-49A0-8C50-DC09FFC018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EB8236-1D43-45F7-A06D-ECCB027002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518515-1787-480F-A96C-5EA884986C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F58C69-63B2-4F39-98DB-5CB39AC59E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5690E8-2D61-487D-A073-B9C3A73276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894A222-2237-4B04-8CE3-BBD07885B3C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AF53EBA-C661-4DBD-A5F3-B912E8F3E20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E6C68EA-5B04-4511-AEC9-BDC63652491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835104-C23E-4C23-BE24-40130822D9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9651DB-F762-47A6-9AB6-80403D5C6D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156271-FEFF-4379-B592-8928AD8BB0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C615E2-7003-44E0-8DE4-C0C9E4426E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B1780B-8A18-4FCD-8D81-C08D7EB022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D5257D-B906-42F3-BBB1-226148B2C6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FCB651-5DA2-4B8F-9F14-058AB85A03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013EFF-4AC2-40F2-827A-19FBC06C69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2E78A4-1DD6-4981-83D6-F68D148843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803658-B2EB-4957-966F-0CBD870B71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0E0505A-E8F6-4882-A459-F8E4292F37C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002B461-D345-4544-A18D-101F405EADF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CA16536-53A8-4360-B1E8-7A7A3A313C1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5A5D90-6890-4882-ADCF-53A4D1BD88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D4BFCE-57AE-493D-B982-687BAF57D0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E384C7-14A0-4F13-881A-292CE8A376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F22D5AE-FF3E-4905-B0B1-E7771972B1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19D230-802D-4205-8198-22707F4163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ED5E3B5-18E2-4C6B-A16C-111656D3E6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1D11EB-9AED-4084-A250-1529218E62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AE2A6D-B521-4BCF-B786-D0670A1855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B53588-DF9C-4E43-929F-C9B39996BF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DF97E20-97DC-44C8-912A-228C83A08E2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F174232-137F-48C8-B83B-3FF06954765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AA59F0-3D01-4E07-9322-A1168B6665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1BE04C6-5077-4D65-8262-55F806B8EA5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B8DB65-6BDB-4D3E-B790-55E244F7D2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6767F9-806A-41FE-ACD1-6D4DB632F6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A71C7-E873-4B87-A30B-22B47E2F12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tangle 8"/>
          <p:cNvGrpSpPr/>
          <p:nvPr/>
        </p:nvGrpSpPr>
        <p:grpSpPr>
          <a:xfrm>
            <a:off x="8150400" y="-6480"/>
            <a:ext cx="1000080" cy="6870960"/>
            <a:chOff x="8150400" y="-6480"/>
            <a:chExt cx="1000080" cy="6870960"/>
          </a:xfrm>
        </p:grpSpPr>
        <p:pic>
          <p:nvPicPr>
            <p:cNvPr id="1" name="Rectangle 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Arial"/>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6142F-BDB4-40D5-A6F1-975EC1EDB3D9}" type="slidenum">
              <a:rPr b="0" lang="en-US" sz="1100" spc="-1" strike="noStrike">
                <a:solidFill>
                  <a:srgbClr val="b13f9a"/>
                </a:solidFill>
                <a:latin typeface="Trebuchet MS"/>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2664000" y="-6480"/>
            <a:ext cx="6486480" cy="6870960"/>
            <a:chOff x="2664000" y="-6480"/>
            <a:chExt cx="6486480" cy="6870960"/>
          </a:xfrm>
        </p:grpSpPr>
        <p:pic>
          <p:nvPicPr>
            <p:cNvPr id="45" name="Rectangle 7"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Straight Connector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lt;date/time&gt;</a:t>
            </a:r>
            <a:endParaRPr b="0" lang="en-US" sz="1000" spc="-1" strike="noStrike">
              <a:solidFill>
                <a:srgbClr val="000000"/>
              </a:solidFill>
              <a:latin typeface="Arial"/>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29FE0-B0FB-4B71-9DC1-A7464A088692}" type="slidenum">
              <a:rPr b="0" lang="en-US" sz="1100" spc="-1" strike="noStrike">
                <a:solidFill>
                  <a:srgbClr val="ffffff"/>
                </a:solidFill>
                <a:latin typeface="Trebuchet MS"/>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tangle 8"/>
          <p:cNvGrpSpPr/>
          <p:nvPr/>
        </p:nvGrpSpPr>
        <p:grpSpPr>
          <a:xfrm>
            <a:off x="8150400" y="-6480"/>
            <a:ext cx="1000080" cy="6870960"/>
            <a:chOff x="8150400" y="-6480"/>
            <a:chExt cx="1000080" cy="6870960"/>
          </a:xfrm>
        </p:grpSpPr>
        <p:pic>
          <p:nvPicPr>
            <p:cNvPr id="90" name="Rectangle 8"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Arial"/>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EE818-B38C-42A9-BABC-3BD7D5820140}" type="slidenum">
              <a:rPr b="0" lang="en-US" sz="1100" spc="-1" strike="noStrike">
                <a:solidFill>
                  <a:srgbClr val="b13f9a"/>
                </a:solidFill>
                <a:latin typeface="Trebuchet MS"/>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4e7ed"/>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4e7ed"/>
                </a:solidFill>
                <a:latin typeface="Trebuchet MS"/>
              </a:rPr>
              <a:t>&lt;date/time&gt;</a:t>
            </a:r>
            <a:endParaRPr b="0" lang="en-US" sz="1000" spc="-1" strike="noStrike">
              <a:solidFill>
                <a:srgbClr val="000000"/>
              </a:solidFill>
              <a:latin typeface="Arial"/>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4e7ed"/>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167A2-C53C-4B98-8675-14316866B917}" type="slidenum">
              <a:rPr b="0" lang="en-US" sz="1100" spc="-1" strike="noStrike">
                <a:solidFill>
                  <a:srgbClr val="f4e7ed"/>
                </a:solidFill>
                <a:latin typeface="Trebuchet MS"/>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tangle 8"/>
          <p:cNvGrpSpPr/>
          <p:nvPr/>
        </p:nvGrpSpPr>
        <p:grpSpPr>
          <a:xfrm>
            <a:off x="8150400" y="-6480"/>
            <a:ext cx="1000080" cy="6870960"/>
            <a:chOff x="8150400" y="-6480"/>
            <a:chExt cx="1000080" cy="6870960"/>
          </a:xfrm>
        </p:grpSpPr>
        <p:pic>
          <p:nvPicPr>
            <p:cNvPr id="177" name="Rectangle 8" descr=""/>
            <p:cNvPicPr/>
            <p:nvPr/>
          </p:nvPicPr>
          <p:blipFill>
            <a:blip r:embed="rId2"/>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Arial"/>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3333B-BA83-47B1-960B-AFE2B3DB2A89}" type="slidenum">
              <a:rPr b="0" lang="en-US" sz="1100" spc="-1" strike="noStrike">
                <a:solidFill>
                  <a:srgbClr val="b13f9a"/>
                </a:solidFill>
                <a:latin typeface="Trebuchet MS"/>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Title 3" descr=""/>
          <p:cNvPicPr/>
          <p:nvPr/>
        </p:nvPicPr>
        <p:blipFill>
          <a:blip r:embed="rId1"/>
          <a:stretch/>
        </p:blipFill>
        <p:spPr>
          <a:xfrm>
            <a:off x="378000" y="-6480"/>
            <a:ext cx="7248240" cy="1158840"/>
          </a:xfrm>
          <a:prstGeom prst="rect">
            <a:avLst/>
          </a:prstGeom>
          <a:ln w="0">
            <a:noFill/>
          </a:ln>
        </p:spPr>
      </p:pic>
      <p:sp>
        <p:nvSpPr>
          <p:cNvPr id="221" name=""/>
          <p:cNvSpPr txBox="1"/>
          <p:nvPr/>
        </p:nvSpPr>
        <p:spPr>
          <a:xfrm>
            <a:off x="457200" y="1752120"/>
            <a:ext cx="7238880" cy="350532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Green Hill Elementary School has a total of 92 third grade students in 5 classes.  There are 18 more fourth grade students than third grade students.  There are 23 fewer second graders than third graders and the same number of fifth graders as fourth graders.  First grade has 3 classrooms of 18 students each.</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Title 1" descr=""/>
          <p:cNvPicPr/>
          <p:nvPr/>
        </p:nvPicPr>
        <p:blipFill>
          <a:blip r:embed="rId1"/>
          <a:stretch/>
        </p:blipFill>
        <p:spPr>
          <a:xfrm>
            <a:off x="450720" y="-6480"/>
            <a:ext cx="7255080" cy="1158840"/>
          </a:xfrm>
          <a:prstGeom prst="rect">
            <a:avLst/>
          </a:prstGeom>
          <a:ln w="0">
            <a:noFill/>
          </a:ln>
        </p:spPr>
      </p:pic>
      <p:sp>
        <p:nvSpPr>
          <p:cNvPr id="223" name=""/>
          <p:cNvSpPr txBox="1"/>
          <p:nvPr/>
        </p:nvSpPr>
        <p:spPr>
          <a:xfrm>
            <a:off x="457200" y="1218960"/>
            <a:ext cx="7238880" cy="144756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f 4 of the third grade classes have a total of 70 students, how many students are in the last third grade classroom?</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Title 1" descr=""/>
          <p:cNvPicPr/>
          <p:nvPr/>
        </p:nvPicPr>
        <p:blipFill>
          <a:blip r:embed="rId1"/>
          <a:stretch/>
        </p:blipFill>
        <p:spPr>
          <a:xfrm>
            <a:off x="450720" y="-6480"/>
            <a:ext cx="7255080" cy="1158840"/>
          </a:xfrm>
          <a:prstGeom prst="rect">
            <a:avLst/>
          </a:prstGeom>
          <a:ln w="0">
            <a:noFill/>
          </a:ln>
        </p:spPr>
      </p:pic>
      <p:sp>
        <p:nvSpPr>
          <p:cNvPr id="225" name=""/>
          <p:cNvSpPr txBox="1"/>
          <p:nvPr/>
        </p:nvSpPr>
        <p:spPr>
          <a:xfrm>
            <a:off x="457200" y="1295280"/>
            <a:ext cx="7238880" cy="90504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What is the total number of first graders?</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Title 1" descr=""/>
          <p:cNvPicPr/>
          <p:nvPr/>
        </p:nvPicPr>
        <p:blipFill>
          <a:blip r:embed="rId1"/>
          <a:stretch/>
        </p:blipFill>
        <p:spPr>
          <a:xfrm>
            <a:off x="450720" y="-6480"/>
            <a:ext cx="7255080" cy="1158840"/>
          </a:xfrm>
          <a:prstGeom prst="rect">
            <a:avLst/>
          </a:prstGeom>
          <a:ln w="0">
            <a:noFill/>
          </a:ln>
        </p:spPr>
      </p:pic>
      <p:sp>
        <p:nvSpPr>
          <p:cNvPr id="227" name=""/>
          <p:cNvSpPr txBox="1"/>
          <p:nvPr/>
        </p:nvSpPr>
        <p:spPr>
          <a:xfrm>
            <a:off x="457200" y="129492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How many students attend Green Hill Elementary School?</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Title 1" descr=""/>
          <p:cNvPicPr/>
          <p:nvPr/>
        </p:nvPicPr>
        <p:blipFill>
          <a:blip r:embed="rId1"/>
          <a:stretch/>
        </p:blipFill>
        <p:spPr>
          <a:xfrm>
            <a:off x="450720" y="-6480"/>
            <a:ext cx="7255080" cy="1158840"/>
          </a:xfrm>
          <a:prstGeom prst="rect">
            <a:avLst/>
          </a:prstGeom>
          <a:ln w="0">
            <a:noFill/>
          </a:ln>
        </p:spPr>
      </p:pic>
      <p:sp>
        <p:nvSpPr>
          <p:cNvPr id="229" name=""/>
          <p:cNvSpPr txBox="1"/>
          <p:nvPr/>
        </p:nvSpPr>
        <p:spPr>
          <a:xfrm>
            <a:off x="457200" y="1609560"/>
            <a:ext cx="7238880" cy="143856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f students sat 2 per table in a first grade room, how many tables would one class need?</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12T14:07:59Z</dcterms:created>
  <dc:creator>127partidak</dc:creator>
  <dc:description/>
  <dc:language>en-US</dc:language>
  <cp:lastModifiedBy>127partidak</cp:lastModifiedBy>
  <dcterms:modified xsi:type="dcterms:W3CDTF">2011-12-16T13:40:31Z</dcterms:modified>
  <cp:revision>57</cp:revision>
  <dc:subject/>
  <dc:title>Information</dc:title>
</cp:coreProperties>
</file>